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F15-D230-4F85-B383-51B7CE7A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4E2-EA93-4CA7-8CE4-5B26221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7182B-B588-4DAD-A998-D45E09D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73E1F-F096-4A7F-96F9-D1CE6B0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DDBB0-C1DA-420C-894F-9157378C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17720-E85C-43C8-9FBD-93984AC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226C7-82F2-433E-9A03-74FC195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4A56B-6AD4-476E-9E3F-298AEDB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F51F1-0317-4C5D-97C8-7E5F8E8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4AA43-AFA9-4DC4-A333-6238FA28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8D748-C051-42AA-9198-3029E74B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C5A-0F5A-4938-AEF3-0EDE57B7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C88-ABA4-4346-800F-0B913B35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C2F99-FE20-4565-841A-30F508C4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008BC-433D-49B2-B756-8C152B0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654A-DF63-4D32-8ADD-1D0EE89A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C73B8-D3C9-4862-9141-3BD76BC1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9C92-FBA2-44AE-9C41-E922554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8DA8C-1CB7-44C0-8FE3-52FAFA1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36A80-8941-46C8-AB02-883BD9E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24E-CECD-4B16-8C83-74E13DC0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7225-3179-4219-9491-28EAE7E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763E8-BE42-4493-8D86-3528689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2228-DC88-4841-8320-81933341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7893-7005-4BBC-88F9-894214B2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4D83B-A704-4729-B609-D8843F8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ECB6-0194-4D89-A8FC-44CCABC0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8642-AF9B-4671-B835-D72831D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F8E3-337D-4893-8081-72033600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0CA4-A842-4C87-A05F-FF659CB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3DC1-6218-4EEB-ADEC-BC47C83D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46A-A5E6-4CE9-A012-30FE9C7F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61CE-E18E-4D1C-883E-EFCC5E6C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D71A-7DC6-4A88-9938-46CDA61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DFA3-767E-4EF3-BE5C-A84D67A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3A86-CF31-4C41-92C1-CF08A76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3241-FD13-4076-9072-A434A02C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C9B0-8412-430B-BA69-10A5B547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39B0-F090-42D5-8EAD-9695B007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13E01-CE69-4D7D-9ABC-368F25EE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A40E8-036F-4C6E-92F7-843443D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F5103-B415-4F42-A252-BF91F154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340-23AA-43A0-966C-3439CD9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6E204-4B8D-4746-8889-E0F11AD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2A0F9-CB5D-4AAC-9C19-E7230A7E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54F56-D50A-4E84-9F42-5F0C824D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A261A-EFED-4949-9A80-D6488B5C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80BE3-B532-4955-A4E5-C1E597C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3F054-F327-4FE8-8CC2-D73FF66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91D45-614A-4778-AF73-16A53AD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CB836-E713-4680-8021-D098A142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FEDB2-88CA-43E8-A99B-A0798D32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AE4B-29E0-4FC0-A425-68EA1370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01A-EDD8-4164-BDB9-BA09074D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F398-04D7-4A09-BFB7-5076ED1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8E8A-62C7-4BA9-B756-BA46EEC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F831-2ACC-4A2E-A195-9228DB2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1264-E736-4937-9185-87E39A8E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B0B7-65C2-4044-B1B4-31994D7D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3828-1A48-4BB1-85B7-A4180A8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C2B6-AA5E-4534-B41F-632F028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313E-1AA2-478A-A896-CC63BDA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E100-C117-47F7-BED4-1044F64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B3E5-A5D2-4827-A872-C411D754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68D-C4FE-4339-BC8A-7F0A217B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F224-A913-4716-910E-5160B928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D8D9-D4EE-48D9-938B-7D7BD293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BDAC-70F4-49DE-82FA-6DD10DE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00DA-104A-4062-BB27-6E1982BD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7ACD-1C72-49ED-A799-3A77AA4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E4E5-11BA-4941-B7B6-2E64FF5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EBDF-D443-42C0-9B5C-18C4820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41213-24F5-43CB-AB1D-0838F34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7F40-A9AD-4BC2-9E0D-FCB32E9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EF27-10CF-4FDE-B90A-2133E468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205-48E3-4765-9E00-A75CE52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A641-A041-46A1-B63D-895E549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478D9-108C-4483-9683-24090E4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8924-B552-49F2-8699-D6D0ED5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12A8D-080C-4766-B93F-B1781FC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5FF62-CA2D-4569-ABE2-AFC60CF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B9A6-C852-44B9-AA00-669D40CD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8636-4363-46C2-AC7A-B804970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1363-D888-4625-ACEE-FB7F24E5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7714-D6E5-4924-9818-86C845C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B425-0C5F-455C-B085-7C8DF95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F9B-44A0-466B-A848-8D1A763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7D87-1C47-4288-842D-C9466B6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4E8A-9816-48B1-8645-E6D8B5A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FF7A-C754-41CB-93CB-4380A879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631C-7AB6-4A03-96CA-2612D47E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542F-A3A1-4354-A1D2-95E43C4A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1097D-3B18-490D-9335-9AD81FC4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F7091A-82FA-4194-9014-BF48F12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8B102-402B-47E4-A622-8402040A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8EA42-AB62-4DEC-82F9-390E4B08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91C353-0FE0-4AAB-B107-504FEB6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D78-33C1-41C4-924E-F498C08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AD3AE-BCC5-499B-8095-B0A58A29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03076-4849-495A-87E2-347F00D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B80DD1-FD78-4E7C-B170-7CD35804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99B551-7EFE-4D32-8992-55AEB2F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0D74C3-42F8-4209-898E-3689652C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A5D50-E383-4E39-938F-81A676DE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70B2A-74E2-44BD-A615-FC5543E9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95C8D-E8A0-49BB-B475-77F4FF4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25A72E-D22F-4260-A548-2FE2E77A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4E513-80F4-48A4-94E8-3CDD9093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2D56-1149-4F7D-BF14-E14FAC0B4C6E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4252-BBB2-412A-A429-35AF793DE12D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E514-F78A-4DD7-8D33-42610F6F37F1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EB1-942D-4AC9-B530-BCD25BF7C8D5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A7F3-1792-4B20-8B21-181BAF10D066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723E-088E-460C-8D0D-1DA1240433AA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5E6-A652-4B1D-AA10-165AE2B98840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029-655F-4B43-945A-3762B8E6B0B6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71EC-5674-411A-A19B-F9FB8600BA3B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55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562360" y="274284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lease take out your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Napoleon evidence shee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Literacy Warm-Up shee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see below projector scree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n say hi to your neighbor! Ask them about their weekend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77760" y="228600"/>
            <a:ext cx="55609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Groups of 3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– Skip Chapter 3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Groups of 5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– Two people will work on Chapter 4, those two must choose one of these additional options e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Person #1: Create a visual for the book cover and write 2 “reviews” of the storybook on the back cover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Person #2:  Create an additional visual for EACH of the other chapters (1-3, 5)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ACH PERSON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should come to class on Wednesday, Nov. 16 with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n outlin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DRAF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f their individual chapter, with some good detail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n idea of what visual you will create for your chapte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readiness to WORK!  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his will be your only time in the computer lab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4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26960" y="249120"/>
            <a:ext cx="8564760" cy="1165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047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28040" cy="17877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Assessment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rench Revolution Storyboo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2"/>
          <a:srcRect l="0" t="0" r="0" b="43211"/>
          <a:stretch/>
        </p:blipFill>
        <p:spPr>
          <a:xfrm>
            <a:off x="762120" y="3276720"/>
            <a:ext cx="76197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Stretch Break!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64767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28040" cy="1787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Assessment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rench Revolution Storyboo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762120" y="3276720"/>
            <a:ext cx="76197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530280" y="-9684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your FALL buddy. If your Fall Buddy is not here, come to the front of the roo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ke a Disney Villain card. ONE per pa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th your Fall Buddy… Look at your Disney Villain card… you and your Buddy find a different pair according to EITHER suit or value of your ca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The pair with the KING of CLUBS (Captain Hook, clubs) can match up with a pair that has another KING (Captain Hook of a different suit) or ANY CLUB (ace, queen, jack, ten, etc…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th your Fall Buddy… Look at your Disney Villain card… you and your Buddy find a different pair according to EITHER suit or value of your ca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The pair with the KING of CLUBS (Captain Hook, clubs) can match up with a pair that has another KING (Captain Hook of a different suit) or ANY CLUB (ace, queen, jack, ten, etc…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his will be your project group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0:32:44Z</dcterms:created>
  <dc:creator>Meri</dc:creator>
  <dc:description/>
  <dc:language>en-US</dc:language>
  <cp:lastModifiedBy>MCPASD</cp:lastModifiedBy>
  <dcterms:modified xsi:type="dcterms:W3CDTF">2011-11-14T15:09:48Z</dcterms:modified>
  <cp:revision>14</cp:revision>
  <dc:subject/>
  <dc:title>Happy  Monday!</dc:title>
</cp:coreProperties>
</file>